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EFF-7CD1-485A-99F7-E21A98B2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2AA-06C5-4D40-84A7-87FADA57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64D-1C43-4EA0-AD62-E6AF6982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C15-2213-484C-9F8A-BB28A010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FB9-1C45-4DBA-BCDD-6B133B31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4D4-1C97-4D6D-8DBC-4CDBAE81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BB7-2023-45B1-A2FB-58FB0F8D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AEE-A593-4A34-B415-3DBEF348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711-9D08-4508-BB42-6F3741C1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84D-F9E4-4C95-B7EE-869C66CD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1FD-D83F-4F49-AC3F-3F9A233F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973-9083-42FB-98D6-9EAC7673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7764-C041-4682-9C59-957FDC72C13D}" type="slidenum"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DL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560232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llan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ML BenQ PHE AAL RD D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Wednesday, February 08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Minion"/>
              </a:rPr>
              <a:t>Integration Management - approach</a:t>
            </a:r>
            <a:endParaRPr b="1" lang="en-US" sz="2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Facts: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tabil Aries SW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Very short term development time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Consequence: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tabilisation and protection of the SW MUST be managed and controlled through out the whole development cyckle  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Strict planning of integration points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Filtering sw maturity deliverires (Qualitity gates, tests) 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Non-immediate workflow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Incremental integration sequence (layer dependancies)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Release Management: 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Iterative process with main release every second week, bugfix follow the week after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ClearQuest bug tracing from the start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All development on one DB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eek to avoid distributed development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CRUM approach (i.e. target for next release etc.)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Integration Managemen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IDB in BEI with Aries SVN 25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CDB in AAL in sync 09.02.2006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Workflow TBD in workshop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Definition of a SW packages from SISL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Sneak preview from PSE/STSL/SISL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Release Management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Tracking team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OTC (Official Tool Chain) TBC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duction tooling (Lauterbach, winswup, bfc, etc.)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DL support 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ject organization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DL working area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Workareas/packages - TBC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Risk’s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Integration Management support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ject organization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IM/BM/CM approach - TBD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Current status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7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41480" y="554040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1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76400" y="554040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884760" y="5540400"/>
          <a:ext cx="914400" cy="71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476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821120" y="5535720"/>
          <a:ext cx="914400" cy="714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5535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900440" y="5157720"/>
            <a:ext cx="50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teckbreif   Styleguide        UE          Featurelist    dHW 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829480" y="5540400"/>
          <a:ext cx="914400" cy="714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9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324000" y="1197000"/>
            <a:ext cx="8296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IM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BMLaha</cp:lastModifiedBy>
  <dcterms:modified xsi:type="dcterms:W3CDTF">2006-02-08T14:53:46Z</dcterms:modified>
  <cp:revision>58</cp:revision>
  <dc:subject/>
  <dc:title>Jerry - DL</dc:title>
</cp:coreProperties>
</file>